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EA01-3DB7-4047-A1CD-3FAF1B891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41F2-5B5C-4F77-BA8D-F717BC360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F5BC-64F7-4179-A566-2BA6C430E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462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A4DA-41CB-4EA4-87D0-82B77202F0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5974-8EC1-4257-B902-E23201799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EE12-2CB3-4E26-BC04-9CDB354AB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F9DB-CB77-42BA-8B77-F33FCC0AA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2642-C31B-47D3-A6FD-81608FE49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4D5C-011C-4799-A831-21DF9183C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40D0-39A2-4C21-A92E-A7D8B88D5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462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5AAC-1373-4EC0-BADF-7D5534EAC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462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DB50-4F3C-4BA7-96E2-E30506A45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4CA1-5C1D-4DC4-A16B-5DB9C228019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ensearch.org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  <a:ea typeface="Arial"/>
              </a:rPr>
              <a:t>Federated Space-Time Query for Earth Science Data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  <a:ea typeface="Arial"/>
              </a:rPr>
              <a:t>Using OpenSearch Conventio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1200" y="3428640"/>
            <a:ext cx="808524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IP Federated Search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Chris Lynnes, NASA/GSFC, Greenbelt, M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Bruce Beaumont, UAH, Huntsville, 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Ruth Duerr, National Snow and Ice Data Center, Boulder, 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Hook  Hua, NASA/JPL, Pasadena,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Italic"/>
                <a:ea typeface="Arial Italic"/>
              </a:rPr>
              <a:t>et 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84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1060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Recursive OpenSearch begins with a 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dataset discovery phase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440" y="1314360"/>
            <a:ext cx="8555040" cy="4589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6680" y="2392200"/>
            <a:ext cx="146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960" y="4599000"/>
            <a:ext cx="1435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87600" y="190008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93920" y="1339920"/>
            <a:ext cx="130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15040" y="1309680"/>
            <a:ext cx="207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penSearch Description Document St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3800" y="1317600"/>
            <a:ext cx="1155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6480" y="227340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79720" y="2273400"/>
            <a:ext cx="180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9460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2328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9560" y="2327400"/>
            <a:ext cx="139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70800" y="2784600"/>
            <a:ext cx="148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98800" y="2610000"/>
            <a:ext cx="173016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093400" y="3086280"/>
            <a:ext cx="17305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95680" y="2403360"/>
            <a:ext cx="2576160" cy="1025280"/>
            <a:chOff x="3595680" y="2403360"/>
            <a:chExt cx="2576160" cy="1025280"/>
          </a:xfrm>
        </p:grpSpPr>
        <p:sp>
          <p:nvSpPr>
            <p:cNvPr id="103" name=""/>
            <p:cNvSpPr/>
            <p:nvPr/>
          </p:nvSpPr>
          <p:spPr>
            <a:xfrm>
              <a:off x="3595680" y="2403360"/>
              <a:ext cx="2576160" cy="973080"/>
            </a:xfrm>
            <a:prstGeom prst="pie">
              <a:avLst/>
            </a:prstGeom>
            <a:solidFill>
              <a:srgbClr val="4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83840" y="2437920"/>
              <a:ext cx="2005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Italic"/>
                  <a:ea typeface="Arial Italic"/>
                </a:rPr>
                <a:t>with link to OpenSearch Description Document for each datas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06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79440" y="1314360"/>
            <a:ext cx="8555040" cy="4589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01360" y="-3240"/>
            <a:ext cx="7365960" cy="1067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Dataset results link to OpenSearch Description document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7600" y="190008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93920" y="1339920"/>
            <a:ext cx="130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13800" y="1317600"/>
            <a:ext cx="1155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76480" y="227340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79720" y="2273400"/>
            <a:ext cx="180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9460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2328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8800" y="2610000"/>
            <a:ext cx="173016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93400" y="3086280"/>
            <a:ext cx="17305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16080" y="3743280"/>
            <a:ext cx="412452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079360" y="4397400"/>
            <a:ext cx="423540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97160" y="3502080"/>
            <a:ext cx="1866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OpenSearch Description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4140360"/>
            <a:ext cx="22730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OpenSearch Description Doc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991120" y="4038480"/>
            <a:ext cx="2271600" cy="622440"/>
            <a:chOff x="5991120" y="4038480"/>
            <a:chExt cx="2271600" cy="622440"/>
          </a:xfrm>
        </p:grpSpPr>
        <p:sp>
          <p:nvSpPr>
            <p:cNvPr id="124" name=""/>
            <p:cNvSpPr/>
            <p:nvPr/>
          </p:nvSpPr>
          <p:spPr>
            <a:xfrm>
              <a:off x="5991120" y="4038480"/>
              <a:ext cx="2271600" cy="622440"/>
            </a:xfrm>
            <a:prstGeom prst="pie">
              <a:avLst/>
            </a:prstGeom>
            <a:solidFill>
              <a:srgbClr val="4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05920" y="4060800"/>
              <a:ext cx="1690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Italic"/>
                  <a:ea typeface="Arial Italic"/>
                </a:rPr>
                <a:t>with template for granule que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26960" y="4599000"/>
            <a:ext cx="1435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6680" y="2392200"/>
            <a:ext cx="146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15040" y="1309680"/>
            <a:ext cx="207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penSearch Description Document St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9560" y="2327400"/>
            <a:ext cx="139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70800" y="2784600"/>
            <a:ext cx="148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32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1060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emplates from OpenSearch Description Documents enable granule query construction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440" y="1314360"/>
            <a:ext cx="8555040" cy="4589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87600" y="190008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93920" y="1339920"/>
            <a:ext cx="130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13800" y="1317600"/>
            <a:ext cx="1155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Query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6480" y="227340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79720" y="2273400"/>
            <a:ext cx="180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9460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23280" y="2262240"/>
            <a:ext cx="1440" cy="3498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98800" y="2610000"/>
            <a:ext cx="173016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093400" y="3086280"/>
            <a:ext cx="17305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16080" y="3743280"/>
            <a:ext cx="412452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079360" y="4397400"/>
            <a:ext cx="423540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89080" y="4976640"/>
            <a:ext cx="629928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07800" y="5586480"/>
            <a:ext cx="62881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43560" y="4664160"/>
            <a:ext cx="172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granul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19760" y="5251320"/>
            <a:ext cx="1727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granul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97160" y="3502080"/>
            <a:ext cx="1866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OpenSearch Description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960" y="4599000"/>
            <a:ext cx="1435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ranule 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6680" y="2392200"/>
            <a:ext cx="146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15040" y="1309680"/>
            <a:ext cx="207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penSearch Description Document St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4140360"/>
            <a:ext cx="22730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OpenSearch Description Doc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560" y="2327400"/>
            <a:ext cx="139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0800" y="2784600"/>
            <a:ext cx="148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tima"/>
                <a:ea typeface="Optima"/>
              </a:rPr>
              <a:t>dataset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e ESIP Federated Search Cluster is defining conventions for a 2-step space time query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Science Information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ortium of &gt;90 organizations working with remotely sensed Earth observation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s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cus groups to work specific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ted Search cluster for ESIP community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Step (Recursive) Open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 response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lient and Server Developmen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6AB3-26B8-4468-9F19-BE93F76AD5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65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72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ederated OpenSearch aspects make adoption easier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649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-based, but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eb pages, documents, workflows, analysis tool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A client can be as simple as an XSLT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4800" y="1006200"/>
            <a:ext cx="8585280" cy="3282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 a stylesheet to the Dataset OpenSearch Description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s the document in the browser as a search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0" t="0" r="41465" b="40838"/>
          <a:stretch/>
        </p:blipFill>
        <p:spPr>
          <a:xfrm>
            <a:off x="563400" y="2425680"/>
            <a:ext cx="777240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76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ral groups are developing servers and client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08488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s following ESIP Federated Search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-N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OS Clearinghouse (EC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Hydrology Resourc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dard Earth Sciences Data and Information Services Center (GES DISC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S Adaptive Processing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now and Ice Data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ador (GES DI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oot (University of Alabama--Huntsvil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implementation / test script (GES DISC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181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uture Pla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/ recruit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with Web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 conversion, subsetting, standard data protocols (OPeNDAP, OG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casting:  Atom-based approach to advertising services for ESIP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rink-wrapped toolset for deploying Recursive OpenSearch serv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ing Earth science data: why so difficult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-Time Query with Open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and server develop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ing Earth science data: why so difficult???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3880-27A2-4700-ADA1-F559A968B9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015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Many phenomena require space-time searches for distributed data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00240"/>
            <a:ext cx="8686800" cy="4457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0000"/>
          </a:bodyPr>
          <a:p>
            <a:pPr marL="34416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 Arctic Oscillation on precipitation in Gree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C-Net station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 ind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S atmospheric pro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MWF model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CEP model outpu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source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and national data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al data centers, universities and data collection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ue-added providers and individual investig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724280" cy="2882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77120" y="1752480"/>
            <a:ext cx="533160" cy="53352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Obtaining satellite data today is tedious, hit-or-mis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6560" y="1233000"/>
            <a:ext cx="777240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Search through multiple directories for the right data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I find them all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s 2-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ach data_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_search_interf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_for_data_fil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ch_data_fil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_data_into_analysis_to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fo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720" y="5587920"/>
            <a:ext cx="800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Italic"/>
                <a:ea typeface="Arial Italic"/>
              </a:rPr>
              <a:t>Ideally, you would want your analysis tool to find and fetch data based on the current work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pace-Time Data Query with OpenSearch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4887-F7DC-4DDB-9D30-2E5674ED6AD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68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3800" y="-360"/>
            <a:ext cx="775188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OpenSearch is a simple, extensible, embeddable, machine-callable convention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206360"/>
            <a:ext cx="83563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pensearc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llection of simple formats for the sharing of search resul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Search Description Document (XM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s a search engine so that it can be used by search clients (incl. Firefox and 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es syntax / semantics for URL-based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s proposed for Geospatial and Tim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28960" y="4011480"/>
            <a:ext cx="1328760" cy="44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8920" y="4408560"/>
            <a:ext cx="1444680" cy="4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1560" y="4416480"/>
            <a:ext cx="1444320" cy="4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09520" y="1310760"/>
            <a:ext cx="86803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94000"/>
          </a:bodyPr>
          <a:p>
            <a:pPr marL="35964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Search Description Document includes URL templ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7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&lt;os:Url type="application/atom+xml"       template="http://mirador.gsfc.nasa.gov/cgi-bin/mirador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granlist.pl?dataSet=AIRS2RET.005&amp;amp;page=1&amp;am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maxgranules={count}&amp;am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pointLocation=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{geo:box}</a:t>
            </a: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&amp;am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endTime=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{time:end}</a:t>
            </a: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&amp;amp;startTime=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{time:start}</a:t>
            </a: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&amp;am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format=atom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964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replace placeholders with search criteria and fetch the U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OpenSearch templates provide the keys to querying heterogeneous search engine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528F-8701-480E-91B5-5BD896C1D08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1371600" cy="566640"/>
            <a:chOff x="0" y="0"/>
            <a:chExt cx="1371600" cy="56664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1371600" cy="566640"/>
            </a:xfrm>
            <a:prstGeom prst="rect">
              <a:avLst/>
            </a:prstGeom>
            <a:solidFill>
              <a:srgbClr val="713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Data query with space and time works better as a 2-step proces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3840" y="1162080"/>
            <a:ext cx="8356320" cy="4533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for datasets then files within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lec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ta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set-level queries h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results set (doze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precision:  precision = desiderata /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ce-time granule (file) queri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Italic"/>
                <a:ea typeface="Arial Italic"/>
              </a:rPr>
              <a:t>for a given dataset</a:t>
            </a:r>
            <a:r>
              <a:rPr b="0" lang="en-US" sz="2400" spc="-1" strike="noStrike">
                <a:solidFill>
                  <a:srgbClr val="ffffff"/>
                </a:solidFill>
                <a:latin typeface="Arial Italic"/>
                <a:ea typeface="Arial Ital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results set (tens of thousands), b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pr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both in one step would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ormous results set (dozens * tens of thousand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low pr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0240" y="5689440"/>
            <a:ext cx="800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Italic"/>
                <a:ea typeface="Arial Italic"/>
              </a:rPr>
              <a:t>OpenSearch Description Documents provide a path to a recursive two-step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Lynnes</dc:creator>
  <dc:description/>
  <cp:keywords/>
  <dc:language>en-US</dc:language>
  <cp:lastModifiedBy>Christopher Lynnes</cp:lastModifiedBy>
  <cp:lastPrinted>2009-12-08T16:15:33Z</cp:lastPrinted>
  <dcterms:modified xsi:type="dcterms:W3CDTF">2009-12-11T21:56:28Z</dcterms:modified>
  <cp:revision>17</cp:revision>
  <dc:subject/>
  <dc:title>Federated Space-Time Query for Earth Science Data  Using OpenSearch Conventions</dc:title>
</cp:coreProperties>
</file>